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5.png" ContentType="image/png"/>
  <Override PartName="/ppt/media/image29.jpeg" ContentType="image/jpeg"/>
  <Override PartName="/ppt/media/image6.jpeg" ContentType="image/jpeg"/>
  <Override PartName="/ppt/media/image33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36.jpeg" ContentType="image/jpeg"/>
  <Override PartName="/ppt/media/image20.png" ContentType="image/png"/>
  <Override PartName="/ppt/media/image34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7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7.jpeg" ContentType="image/jpeg"/>
  <Override PartName="/ppt/media/image38.jpeg" ContentType="image/jpeg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2177C-1454-438E-A5F5-7E687AF9176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Язычество восточных славя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DEB8B-4EB5-4A2D-8A5D-9A5E9AB1C028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Ярил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бог солнца. Олицетворял собой весну, пробуждающуюся от зимней спячки природу. Ярило славянам представлялся в виде молодого юноши, ездившего по полям на белом коне: где ярило проедет, там вырастет богатый урожа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95679-CF5A-48D3-8EA7-DF92B9B3DDA4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ственным крупным женским божеством у славян была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Макош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ая олицетворяла рождение всего живого, была покровительницей женской части хозя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BF0D8-AD46-4AA9-8649-9020045EE5E5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 временем, уже по мере выдвижения в общественной жизни славян князей, воевод, дружин, начала великих военных походов, в которых играла молодая удаль зарождающегося государства, на первый план у славян все больше выдвигается бог молнии и грома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Перу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ый затем становится главным небесным божеством, сливается со Сварогом, Родом как более древними богами. Происходит это не случайно: Перун был богом, чей культ родился в княжеской, дружинной среде. Если солнце всходило и заходило, ветер дул, а потом стихал, плодородие почвы, бурно проявлявшееся весной и летом, утрачивалось осенью и исчезало зимой, то молния никогда в глазах славян не теряла своего могущества. Она не была подвластна другим стихиям, не была рождена каким-то другим началом. Перун - молния, высшее божество был непобедим. К IX в. он стал главным богом восточных славя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5FA01-B450-43D8-977E-B9F0BE7FAF4C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клонения своим богам славяне не строили храмов. Они совершали свои обряды в священных рощах, у священных дубов, где стояли деревянные, а иногда и каменные статуи языческих богов –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идолы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Что бы задобрить разгневанного бога или заручиться его милостью, ему в жертву приносили животных, а в особо важных случаях – даже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славян не было и особого сословия жрецов. Но они думали, что есть люди, которые могут общаться с богами, творить заклинания и предсказывать будущее. Таких людей называли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волхвами, кудесни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189C6-9AD6-4BFD-984D-6890ACB979C8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лые и добрые дух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языческие представления не исчерпывались лишь главными богами. Мир был населен и другими сверхъестественными существами. Многие из них были связаны с представлением о существовании загробного царства. Именно оттуда к людям приходили злые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духи - упыр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добрыми духами, оберегающими человека, являлись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берегин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лавяне стремились защищаться от злых духов заговорами, амулетами, так называемыми "оберегами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10130-0EF5-4B9A-B356-ADF9053C4493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лесу обитал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леший и баба-яг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в глубине каждого озера или реки, по представлениям славян, жил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водя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у воды жили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усалк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лавяне верили, что это души умерших выходящие весной насладиться природ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вание "русалка" происходит от слова "русый", что означает на древнеславянском языке "светлый", "чистый". Обитание русалок связывали с близостью водоемов - рек, озер, которые считались путем в подземное царство. По этому водному пути русалки выходили на сушу и обитали уже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346BF-4E7E-4A01-886F-37791930013A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Леш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дух леса, который живет в дупле старого дерева и наводит на людей ужас своими протяжными завываниям, жутким хохотом, стонами и плачем. Он любит петь, но в его песне нет слов. Она больше напоминает шум деревьев на сильном ветру во время бури. Леший – хозяин леса и повелитель зверей. Выглядит он наполовину как человек, наполовину как зверь. На нем звериная шкура, на голове рога, а ноги кончаются не пальцами, а копытами. Глаза у лешего зеленые и светятся в темноте. По своему желанию он может быть то не больше гриба-мухомора, и тогда его не сыскать среди травы и палой листвы, а может стать вровень с самыми высокими и могучими лесными великанами – дубами, елями и соснами. Люди побаивались лешего. Уж больно он недобрый и бедовый. Если кто-то заблудился в лесу, потерял тропинку, которая вела назад, к дому, значит, в том виноват лесовик. Это он сбивает человека с пути, заставляет его кружить и плутать в глухой чаще на одном и том же мес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A0222-57DE-448D-8E73-E9044C3AABE9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Водя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дух рек и озер. Славяне считали, что он для запугивания людей громко хохотал, хлопал в ладоши. Мог подражать речи человека или животных (ухал, крякал, стонал, выл, блеял и пр.). Любил заманивать путников в свой подводный дворец. Выглядел он так: на пухлом лице горящие красные глаза-уголья, хвост рыбий, тело покрыто черной чешуей и тиной, вместо рук – лапы с перепонками. Думали, что водяной обладает способностью к превращениям и оборачивается то бревном, то рыбой, то свиньей, коровой или собакой. Любил ездить верхом на соме, которого за это прозвал «чертов конь». Место жительства выбирал глубокое, любил селиться под мельницами, и друживший с ним мельник ежегодно приносил водяному в жертву свин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5709B-05CF-4A5D-8C8B-E12A16FB719F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вяне считали, что каждый дом находится под покровительством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домово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ого отождествляли с духом своего родоначальника, пращура, или щура, чура. Когда человек считал, что ему грозят злые духи, он призывал своего покровителя - домового, чура, защитить его и говорил: "Чур меня, чур меня!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9041F-E04D-4EA0-9B8D-0CE3E3BC89E1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улеты, обере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защитить себя от гнева божеств и злых духов, недобрых сил и дурного глаза, славяне придумали различные обереги – предметы, которые будто бы спасали от напасти и отводили колдовские чары. У каждого человека, будь он ребенок или взрослый, постоянно были при себе амулеты в виде медвежьего когтя, волчьего зуба или кабаньего клыка. Дома на видном месте ставили вырезанную из дерева фигурку домового, чтобы берег покой, сторожил жилище от воров и хранил от пожара. Заступницей женщин была Макошь, и потому многие славянки носили на шее или на груди изображение этого божества. Оберегами могли быть всякие знаки и узоры на предметах повседневного быта и обихода: на ложке, на гребешке, на ручке ножа или кувшине. На одежде, покрывалах, полотенцах и платках тоже были обереги: особая цветная вышивка или красивый рисунок на ткани. Большие надежды славяне возлагали на защитную силу слова. Произнося заветные заклинания, которые держались в большом секрете, а иногда прибегая и к грубым ругательствам, древние люди хотели прогнать беду, испугать врага, победить болезнь, не поддаться страх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06E10-6F12-4385-8BE4-BAB0C1A04218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елиг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уществовавшая у разных народов до принятия ими христианства или ислама,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называется язычеств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ой, разнообразной с детально разработанными обычаями была религия восточных славян. Ее истоки уходят в индоевропейские древние верования и еще дальше к временам палеолита. Именно там, в глубинах древности зарождались представления человека о сверхъестественных силах, которые управляют его судьбой, о его отношении к природе и о ее отношении к человеку, о своем месте в окружающем мире. Восточные славяне были язычниками, то есть поклонялись бог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94E26-2038-43EA-90DF-7DCD10BA4907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я жизнь славянина была связана с миром сверхъестественных существ, за которыми стояли силы природы. Это был мир фантастический и поэтичный. Он входил в каждодневную жизнь каждой славянской семь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CE851-8D8E-4BA5-8122-22EDC01F4DF7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здник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вый г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же накануне нового года (а год у древних славян начинался, как и теперь, 1 января, по некоторым данным 1 декабря, 1 марта), а потом поворота солнца на весну начинался праздник Коляды. Сначала в домах гасли огни, а потом люди добывали трением новый огонь, зажигали свечи, очаги, славили начало новой жизни солнца, гадали о своей судьбе, совершали жертвопри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987AF-E8C5-4834-AAA6-4A1D7418CF3E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слен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ой крупный праздник, совпадающий с природными явлениями, отмечался в марте. То был день весеннего равноденствия. Славяне славили солнце, праздновали возрождение природы, наступление весны. Они сжигали чучело зимы, холода, смерти; начиналась масленица с ее блинами, напоминающими солнечный круг, проходили гулянья, катания на санях, разные потех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C36D8-A9CF-4BEB-924C-8D0EFE1CAC0D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вин д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-2 мая славяне убирали лентами молодую березу, украшали ветками с только что распустившимися листьями свои дома, снова славили бога солнца, отмечали появление первых весенних вс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F83C0-69A4-4105-81EB-787720C7568E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ван Куп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 июня – в день летнего солнцеворота – праздновали Ивана Купалу, который был божеством изобилия, земных плодов.  Поспевал урожай, и люди молились о том, чтобы боги послали им дождя. В этот день собирали травы, которым приписывали чудодейственную силу; купались в реке и верили, что это исцеляет от недугов; приносили в жертву белого петуха – птицу, приветствующую рассвет, угодную Солнцу. Накануне этого дня, по представлениям славян, русалки выходили на берег из воды - начиналась "русальная неделя". Девушки в эти дни водили хороводы, бросали в реки венки. Самых красивых девушек обвивали зелеными ветками и поливали водой, как бы призывая на землю долгожданный дождь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чью вспыхивали купальские костры, через которые прыгали юноши и девушки, что означало ритуал очищения, которому как бы помогал священный ого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упальские ночи совершались так называемые "умыкания девиц", когда молодые люди сговаривались и жених уводил невесту от домашнего оча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083AB-68DF-4441-B84B-090E71B6826D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я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ыми религиозными обрядами обставлялись рождения, свадьбы, похороны. Так, известен похоронный обычай восточных славян хоронить вместе с прахом человека (славяне сжигали на кострах своих покойников, помещая их сначала в деревянные ладьи; это означало, что человек уплывает в подземное царство) одну из его жен, над которой совершалось ритуальное убийство; в могилу воина клали останки боевого коня, оружие, украшения. Жизнь продолжалась, по представлениям славян, и за гробом. Затем над могилой насыпали высокий курган и совершалась языческая тризна: родственники и соратники поминали умершего. Во время печального пиршества также проводили в его честь воинские состязания. Эти обряды, разумеется, касались лишь племенных вожд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E65FD-69EC-4FB5-A7CB-0B92C2DDA2C9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зыческие верования и обычаи сохранялись у восточных славян еще долгое время и после принятия христианства, переплетаясь с христианскими праздниками и обрядами на протяжении многих столе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70BE7-997C-4F0D-B6C3-F630EE0B9B10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ждение славя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вяне верили в свое происхождение от некоего прародителя. Например, некоторые племена считали своим прародителем Волка. Он считался могущественным защитником племени, пожирателем злых духов. Во время зимнего солнцестояния все мужчины этих племен во главе с языческими жрецами надевали волчьи шкуры (длаки), что символизировало превращение в волков. У звериного предка просили силы и мудрости. Позднее, с приходом христианства, словом "волкодлак", то есть облаченный в звериную шкуру, стали называть злого оборотн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27C12-AF9D-4850-8C2B-0755567CD027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ги и боги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 другие древние народы, как, в частности, древние греки, славяне населили мир разнообразными богами и богинями. Были среди них главные и второстепенные, могучие, всесильные и слабые, шаловливые, злые и добр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14B58-9DE5-4813-9930-98F0B0E0220A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главе славянских божеств, стоял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великий Сваро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бог вселенной, неба и огня небесного, напоминающий древнегреческого Зевса. По поверьям древних славян, он разбивал лучами-стрелами небесный покров. Когда-то Сварог бросил на землю с неба кузнечные клещи, и стех пор люди научились ковать железо. Он покровитель кузнецов. Его и самого представляли как молодого сильного кузнеца. Его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сыновья - Сварожич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солнце и огонь, были носителями света и теп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787DD-AF52-4D18-A65C-267BDC201E2D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г солнца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Даждьбо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есьма почитался славянами. Недаром автор "Слова о полку Игореве" называл славян "даждьбожьи внуки". Он сын Сварога, олицетворял собой солнце. Каждое утро он выезажет на колеснице, запряженной белыми огнедышащими конями. Его сестры – Утренняя Заря и Вечерняя Заря – поочередно выводят и заводят в конюшню коней Даждьбога. У него были две прислужницы, разгонявшие тучи и с помощью дождей очищавшие его лиц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0BABB-4EB5-438E-BD4A-1C0198F37DA1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ились славяне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оду и роженица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богу и богиням плодородия. Этот культ был связан с земледельческими занятиями населения и был, поэтому особенно популярен. Род – творец всего сущего, он «вдувал» в людей жизнь. Когда в семье хотели иметь детей, для Рода готовили особое жертвоприношение – кашу, сыр, хлеб и сладкий, сваренный на меду напиток. Вкусив это угощение, Род будто бы посылал в помощь людям верно служивших ему дев – Рожаниц, которые и должны били позаботиться  о припл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AF482-2A27-4923-B001-B47A196E0CD5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г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Веле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читался у славян в качестве покровителя скотоводства, это был своеобразный "скотный бог". Считалось, что он способствует обогащению. В Х веке именем Велеса клялись князья и их договоров с византийскими монархами. Праздник Велеса отмечался в начале января. К Велесу дня выпекалось особое печенье в в виде домашних животных. Люди рядились в звериные маски, надевали на себя вывороченные тулу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BBE31-CF5F-456F-96C8-1816B39A6440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Стрибо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о их понятиям, повелевал ветрами, как древнегреческий Эо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C1D88-7DBE-4680-9AFB-D6D52102D6B1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3359-FD34-4868-BFCA-99837D065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540C-180B-4D3B-B741-29C9A757C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5389-1322-47D6-8073-87F42839F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097B-A373-4F0D-9C36-9AE1A332C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54175-AA03-411B-8A40-2CFBCEE99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F17AA-09F0-487C-8216-2AC004BCF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5E745-A97E-42AA-8072-31B04BACB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7969D-75B0-49F5-9172-1733D7E87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AFC8A-C782-42D4-93C7-1B7AE72B0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69375-6D83-41E3-A19C-1B49AA634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78867-03E3-4FBB-B4DD-3DEBEB4A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96C7-A8EF-4EC0-9329-55A18656C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5C92F-EB6F-4163-81EE-680DF10E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D77DA-2CE4-4D41-A39A-B3AFFFE5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DF355-FDB6-4AB9-BFEC-A9B1C8391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1D658-DF86-487E-9A76-B8509AA11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A8C34-4470-4A75-AFEC-0AFD2443A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46F1-4D10-4F74-A7E1-D928B0C81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35F1-64BC-4277-A52D-C4761A729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80F4-B2F4-4B8F-AB9A-4EF8650F1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5921-D720-48F8-BEB0-7CFF2B1A5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B2D0-166F-41B1-A669-1DD7D4DB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F6DD-2FA5-4017-B479-994D9499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4CC4-509E-41C9-BFDB-50F8738D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6DFEC-F0B4-49E7-AA14-0FFC531E22A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1C130-7FE6-4293-82CE-1B5413004EC0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art.rodolad.ru/portfolio/bogy/bogra_t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3114/eugenio19.1a/0_1d3eb_6c53be2b_XL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s41.radikal.ru/i094/0910/90/c3a1b08939c8.jpg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aplakal.com/uploads/previews/post-3-12462802641160.jpg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project68.narod.ru/Integ/2/682/perun.gif" TargetMode="External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llumos.narod.ru/alhimia/l4_2.JPG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s57.radikal.ru/i155/0811/e7/748cc826af96.jpg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godsbay.ru/slavs/images/slav172.jpg" TargetMode="External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2708/lenuschkam.71/0_2616e_1adea0bf_XL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live4fun.ru/small_pictures/img_37744038_7148_1.jpg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myfhology.narod.ru/monsters/vodyanik.jpg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081.radikal.ru/0911/5a/7b58017ebcd3.jpg" TargetMode="External"/><Relationship Id="rId2" Type="http://schemas.openxmlformats.org/officeDocument/2006/relationships/image" Target="../media/image27.jpeg"/><Relationship Id="rId3" Type="http://schemas.openxmlformats.org/officeDocument/2006/relationships/hyperlink" Target="http://dreamsilver-taro.narod.ru/libr/metod/amulet/slav/06.JPG" TargetMode="External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lightreiki.org/_nw/4/s34706.jpg" TargetMode="External"/><Relationship Id="rId2" Type="http://schemas.openxmlformats.org/officeDocument/2006/relationships/image" Target="../media/image29.jpeg"/><Relationship Id="rId3" Type="http://schemas.openxmlformats.org/officeDocument/2006/relationships/hyperlink" Target="http://runes.ucoz.ru/3215.jpg" TargetMode="External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booksiti.net.ru/books/image/25000109268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s50.radikal.ru/i128/0904/e2/95cf4e5d84fe.jpg" TargetMode="External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podolsk.ru/images/138822_image_large.jpg" TargetMode="External"/><Relationship Id="rId2" Type="http://schemas.openxmlformats.org/officeDocument/2006/relationships/image" Target="../media/image32.jpeg"/><Relationship Id="rId3" Type="http://schemas.openxmlformats.org/officeDocument/2006/relationships/hyperlink" Target="http://img-fotki.yandex.ru/get/2709/lenuschkam.187/0_2a759_ed61a0f0_XL" TargetMode="External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139.photobucket.com/albums/q295/psycolorena/r9_2.jpg" TargetMode="External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media.meta.ua/files/pic/0/21/119/zNivxBDWqM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trely-peruna.ucoz.ru/_ph/1/2/375376906.jp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dreamworlds.ru/uploads/posts/2008-07/thumbs/1215804087_slav033.jpg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dazzle.ru/spec/bogi/svarog.gif" TargetMode="External"/><Relationship Id="rId2" Type="http://schemas.openxmlformats.org/officeDocument/2006/relationships/image" Target="../media/image10.png"/><Relationship Id="rId3" Type="http://schemas.openxmlformats.org/officeDocument/2006/relationships/hyperlink" Target="http://endless.at.ua/_ph/3/2/129952059.jpg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lavyans.narod.ru/panteon/dagbog.gif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pycu4u.clan.su/_ph/1/2/941610026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hrono.ru/statii/2008/veles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dreamworlds.ru/uploads/posts/2008-11/thumbs/1225574106_stribog.a.-mazin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1000080" y="1428480"/>
            <a:ext cx="56404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79af7d"/>
                </a:solidFill>
                <a:latin typeface="Arial"/>
              </a:rPr>
              <a:t>Язычество восточных славян</a:t>
            </a:r>
            <a:endParaRPr b="0" lang="en-US" sz="8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6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Ярило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– бог солнца. Олицетворял собой весну, пробуждающуюся от зимней спячки природу. Ярило славянам представлялся в виде молодого юноши, ездившего по полям на белом коне: где ярило проедет, там вырастет богатый урожай.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1" name="Picture 5" descr="Картинка 2 из 21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7280" y="2349360"/>
            <a:ext cx="2619360" cy="381024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Единственным крупным женским божеством у славян была </a:t>
            </a: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Макошь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, которая олицетворяла рождение всего живого, была покровительницей женской части хозяйства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5" name="Picture 5" descr="Картинка 1 из 15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2349360"/>
            <a:ext cx="2952720" cy="38102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Картинка 2 из 15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56000" y="2708280"/>
            <a:ext cx="2857680" cy="3809880"/>
          </a:xfrm>
          <a:prstGeom prst="rect">
            <a:avLst/>
          </a:prstGeom>
          <a:ln w="0">
            <a:noFill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Со временем, уже по мере выдвижения в общественной жизни славян князей, воевод, дружин, начала великих военных походов, в которых играла молодая удаль зарождающегося государства, на первый план у славян все больше выдвигается бог молнии и грома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Перун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, который затем становится главным небесным божеством, сливается со Сварогом, Родом как более древними богами. Происходит это не случайно: Перун был богом, чей культ родился в княжеской, дружинной среде. Если солнце всходило и заходило, ветер дул, а потом стихал, плодородие почвы, бурно проявлявшееся весной и летом, утрачивалось осенью и исчезало зимой, то молния никогда в глазах славян не теряла своего могущества. Она не была подвластна другим стихиям, не была рождена каким-то другим началом. Перун - молния, высшее божество был непобедим. К IX в. он стал главным богом восточных славян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0" name="Picture 5" descr="Картинка 43 из 1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3429000"/>
            <a:ext cx="2212920" cy="31273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9" descr="Картинка 6 из 23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9640" y="3357720"/>
            <a:ext cx="2686320" cy="3362040"/>
          </a:xfrm>
          <a:prstGeom prst="rect">
            <a:avLst/>
          </a:prstGeom>
          <a:ln w="0">
            <a:noFill/>
          </a:ln>
        </p:spPr>
      </p:pic>
      <p:sp>
        <p:nvSpPr>
          <p:cNvPr id="24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Для поклонения своим богам славяне не строили храмов. Они совершали свои обряды в священных рощах, у священных дубов, где стояли деревянные, а иногда и каменные статуи языческих богов –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идолы.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Что бы задобрить разгневанного бога или заручиться его милостью, ему в жертву приносили животных, а в особо важных случаях – даже людей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У славян не было и особого сословия жрецов. Но они думали, что есть люди, которые могут общаться с богами, творить заклинания и предсказывать будущее. Таких людей называли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волхвами, кудесниками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4" name="Picture 5" descr="Картинка 118 из 73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35280" y="2997360"/>
            <a:ext cx="4019400" cy="3733560"/>
          </a:xfrm>
          <a:prstGeom prst="rect">
            <a:avLst/>
          </a:prstGeom>
          <a:ln w="0">
            <a:noFill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Злые и добрые дух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Но языческие представления не исчерпывались лишь главными богами. Мир был населен и другими сверхъестественными существами. Многие из них были связаны с представлением о существовании загробного царства. Именно оттуда к людям приходили злые </a:t>
            </a: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духи - упыри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А добрыми духами, оберегающими человека, являлись </a:t>
            </a: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берегини.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Славяне стремились защищаться от злых духов заговорами, амулетами, так называемыми "оберегами"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8" name="Picture 4" descr="Картинка 2 из 3494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3048120"/>
            <a:ext cx="2303280" cy="30906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Картинка 1 из 376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700360" y="2997360"/>
            <a:ext cx="5076720" cy="3695400"/>
          </a:xfrm>
          <a:prstGeom prst="rect">
            <a:avLst/>
          </a:prstGeom>
          <a:ln w="0">
            <a:noFill/>
          </a:ln>
        </p:spPr>
      </p:pic>
      <p:sp>
        <p:nvSpPr>
          <p:cNvPr id="25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В лесу обитал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леший и баба-яга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, в глубине каждого озера или реки, по представлениям славян, жил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водяной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, у воды жили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русалки.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Славяне верили, что это души умерших выходящие весной насладиться природой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Название "русалка" происходит от слова "русый", что означает на древнеславянском языке "светлый", "чистый". Обитание русалок связывали с близостью водоемов - рек, озер, которые считались путем в подземное царство. По этому водному пути русалки выходили на сушу и обитали уже на земле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2" name="Picture 7" descr="Картинка 7 из 7197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79640" y="3068640"/>
            <a:ext cx="3868560" cy="337824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Леший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– дух леса, который живет в дупле старого дерева и наводит на людей ужас своими протяжными завываниям, жутким хохотом, стонами и плачем. Он любит петь, но в его песне нет слов. Она больше напоминает шум деревьев на сильном ветру во время бури. Леший – хозяин леса и повелитель зверей. Выглядит он наполовину как человек, наполовину как зверь. На нем звериная шкура, на голове рога, а ноги кончаются не пальцами, а копытами. Глаза у лешего зеленые и светятся в темноте. По своему желанию он может быть то не больше гриба-мухомора, и тогда его не сыскать среди травы и палой листвы, а может стать вровень с самыми высокими и могучими лесными великанами – дубами, елями и соснами. Люди побаивались лешего. Уж больно он недобрый и бедовый. Если кто-то заблудился в лесу, потерял тропинку, которая вела назад, к дому, значит, в том виноват лесовик. Это он сбивает человека с пути, заставляет его кружить и плутать в глухой чаще на одном и том же месте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5" name="Picture 4" descr="Картинка 3 из 1045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3357720"/>
            <a:ext cx="2288880" cy="3233520"/>
          </a:xfrm>
          <a:prstGeom prst="rect">
            <a:avLst/>
          </a:prstGeom>
          <a:ln w="0">
            <a:noFill/>
          </a:ln>
        </p:spPr>
      </p:pic>
      <p:sp>
        <p:nvSpPr>
          <p:cNvPr id="25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Водяной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– дух рек и озер. Славяне считали, что он для запугивания людей громко хохотал, хлопал в ладоши. Мог подражать речи человека или животных (ухал, крякал, стонал, выл, блеял и пр.). Любил заманивать путников в свой подводный дворец. Выглядел он так: на пухлом лице горящие красные глаза-уголья, хвост рыбий, тело покрыто черной чешуей и тиной, вместо рук – лапы с перепонками. Думали, что водяной обладает способностью к превращениям и оборачивается то бревном, то рыбой, то свиньей, коровой или собакой. Любил ездить верхом на соме, которого за это прозвал «чертов конь». Место жительства выбирал глубокое, любил селиться под мельницами, и друживший с ним мельник ежегодно приносил водяному в жертву свинью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8" name="Picture 5" descr="Картинка 2 из 8259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24000" y="2997360"/>
            <a:ext cx="3149640" cy="3630600"/>
          </a:xfrm>
          <a:prstGeom prst="rect">
            <a:avLst/>
          </a:prstGeom>
          <a:ln w="0">
            <a:noFill/>
          </a:ln>
        </p:spPr>
      </p:pic>
      <p:sp>
        <p:nvSpPr>
          <p:cNvPr id="25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Славяне считали, что каждый дом находится под покровительством </a:t>
            </a: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домового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, которого отождествляли с духом своего родоначальника, пращура, или щура, чура. Когда человек считал, что ему грозят злые духи, он призывал своего покровителя - домового, чура, защитить его и говорил: "Чур меня, чур меня!"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1" name="Picture 4" descr="Картинка 1 из 1948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2852640"/>
            <a:ext cx="2838600" cy="38102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5" descr="Картинка 15 из 41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32360" y="4076640"/>
            <a:ext cx="2789280" cy="2625840"/>
          </a:xfrm>
          <a:prstGeom prst="rect">
            <a:avLst/>
          </a:prstGeom>
          <a:ln w="0">
            <a:noFill/>
          </a:ln>
        </p:spPr>
      </p:pic>
      <p:sp>
        <p:nvSpPr>
          <p:cNvPr id="26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Амулеты, оберег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739908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Чтобы защитить себя от гнева божеств и злых духов, недобрых сил и дурного глаза, славяне придумали различные обереги – предметы, которые будто бы спасали от напасти и отводили колдовские чары. У каждого человека, будь он ребенок или взрослый, постоянно были при себе амулеты в виде медвежьего когтя, волчьего зуба или кабаньего клыка. Дома на видном месте ставили вырезанную из дерева фигурку домового, чтобы берег покой, сторожил жилище от воров и хранил от пожара. Заступницей женщин была Макошь, и потому многие славянки носили на шее или на груди изображение этого божества. Оберегами могли быть всякие знаки и узоры на предметах повседневного быта и обихода: на ложке, на гребешке, на ручке ножа или кувшине. На одежде, покрывалах, полотенцах и платках тоже были обереги: особая цветная вышивка или красивый рисунок на ткани. Большие надежды славяне возлагали на защитную силу слова. Произнося заветные заклинания, которые держались в большом секрете, а иногда прибегая и к грубым ругательствам, древние люди хотели прогнать беду, испугать врага, победить болезнь, не поддаться страху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6" name="Picture 5" descr="Картинка 1 из 14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3284640"/>
            <a:ext cx="3166920" cy="17906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7" descr="Картинка 9 из 13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35280" y="3860640"/>
            <a:ext cx="4056120" cy="2853000"/>
          </a:xfrm>
          <a:prstGeom prst="rect">
            <a:avLst/>
          </a:prstGeom>
          <a:ln w="0">
            <a:noFill/>
          </a:ln>
        </p:spPr>
      </p:pic>
      <p:sp>
        <p:nvSpPr>
          <p:cNvPr id="26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250920" y="105264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Религия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, существовавшая у разных народов до принятия ими христианства или ислама, </a:t>
            </a: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называется язычеством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Сложной, разнообразной с детально разработанными обычаями была религия восточных славян. Ее истоки уходят в индоевропейские древние верования и еще дальше к временам палеолита. Именно там, в глубинах древности зарождались представления человека о сверхъестественных силах, которые управляют его судьбой, о его отношении к природе и о ее отношении к человеку, о своем месте в окружающем мире. Восточные славяне были язычниками, то есть поклонялись богам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Picture 5" descr="Картинка 8 из 1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2924280"/>
            <a:ext cx="2286000" cy="3809880"/>
          </a:xfrm>
          <a:prstGeom prst="rect">
            <a:avLst/>
          </a:prstGeom>
          <a:ln w="0">
            <a:noFill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ся жизнь славянина была связана с миром сверхъестественных существ, за которыми стояли силы природы. Это был мир фантастический и поэтичный. Он входил в каждодневную жизнь каждой славянской семьи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0" name="Picture 5" descr="Картинка 2 из 16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6360" y="2781360"/>
            <a:ext cx="5076720" cy="3352680"/>
          </a:xfrm>
          <a:prstGeom prst="rect">
            <a:avLst/>
          </a:prstGeom>
          <a:ln w="0">
            <a:noFill/>
          </a:ln>
        </p:spPr>
      </p:pic>
      <p:sp>
        <p:nvSpPr>
          <p:cNvPr id="27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Праздники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новый год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Уже накануне нового года (а год у древних славян начинался, как и теперь, 1 января, по некоторым данным 1 декабря, 1 марта), а потом поворота солнца на весну начинался праздник Коляды. Сначала в домах гасли огни, а потом люди добывали трением новый огонь, зажигали свечи, очаги, славили начало новой жизни солнца, гадали о своей судьбе, совершали жертвоприношения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4" name="Picture 5" descr="Картинка 62 из 1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637000"/>
            <a:ext cx="4422600" cy="29206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7" descr="Картинка 49 из 19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00720" y="4437000"/>
            <a:ext cx="3289320" cy="2314800"/>
          </a:xfrm>
          <a:prstGeom prst="rect">
            <a:avLst/>
          </a:prstGeom>
          <a:ln w="0">
            <a:noFill/>
          </a:ln>
        </p:spPr>
      </p:pic>
      <p:sp>
        <p:nvSpPr>
          <p:cNvPr id="27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маслениц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Другой крупный праздник, совпадающий с природными явлениями, отмечался в марте. То был день весеннего равноденствия. Славяне славили солнце, праздновали возрождение природы, наступление весны. Они сжигали чучело зимы, холода, смерти; начиналась масленица с ее блинами, напоминающими солнечный круг, проходили гулянья, катания на санях, разные потехи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9" name="Picture 5" descr="Картинка 112 из 1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6360" y="2997360"/>
            <a:ext cx="5076720" cy="3686040"/>
          </a:xfrm>
          <a:prstGeom prst="rect">
            <a:avLst/>
          </a:prstGeom>
          <a:ln w="0">
            <a:noFill/>
          </a:ln>
        </p:spPr>
      </p:pic>
      <p:sp>
        <p:nvSpPr>
          <p:cNvPr id="28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живин день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1-2 мая славяне убирали лентами молодую березу, украшали ветками с только что распустившимися листьями свои дома, снова славили бога солнца, отмечали появление первых весенних всходов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83" name="Picture 5" descr="Картинка 28 из 53"/>
          <p:cNvPicPr/>
          <p:nvPr/>
        </p:nvPicPr>
        <p:blipFill>
          <a:blip r:embed="rId1"/>
          <a:stretch/>
        </p:blipFill>
        <p:spPr>
          <a:xfrm>
            <a:off x="611280" y="2637000"/>
            <a:ext cx="2874960" cy="28749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Картинка 47 из 629"/>
          <p:cNvPicPr/>
          <p:nvPr/>
        </p:nvPicPr>
        <p:blipFill>
          <a:blip r:embed="rId2"/>
          <a:stretch/>
        </p:blipFill>
        <p:spPr>
          <a:xfrm>
            <a:off x="4356000" y="4221000"/>
            <a:ext cx="3156120" cy="2405160"/>
          </a:xfrm>
          <a:prstGeom prst="rect">
            <a:avLst/>
          </a:prstGeom>
          <a:ln w="0">
            <a:noFill/>
          </a:ln>
        </p:spPr>
      </p:pic>
      <p:sp>
        <p:nvSpPr>
          <p:cNvPr id="28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Иван Купал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24 июня – в день летнего солнцеворота – праздновали Ивана Купалу, который был божеством изобилия, земных плодов.  Поспевал урожай, и люди молились о том, чтобы боги послали им дождя. В этот день собирали травы, которым приписывали чудодейственную силу; купались в реке и верили, что это исцеляет от недугов; приносили в жертву белого петуха – птицу, приветствующую рассвет, угодную Солнцу. Накануне этого дня, по представлениям славян, русалки выходили на берег из воды - начиналась "русальная неделя". Девушки в эти дни водили хороводы, бросали в реки венки. Самых красивых девушек обвивали зелеными ветками и поливали водой, как бы призывая на землю долгожданный дождь. 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Ночью вспыхивали купальские костры, через которые прыгали юноши и девушки, что означало ритуал очищения, которому как бы помогал священный огонь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В купальские ночи совершались так называемые "умыкания девиц", когда молодые люди сговаривались и жених уводил невесту от домашнего очага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88" name="Picture 9" descr="Картинка 12 из 2243"/>
          <p:cNvPicPr/>
          <p:nvPr/>
        </p:nvPicPr>
        <p:blipFill>
          <a:blip r:embed="rId1"/>
          <a:stretch/>
        </p:blipFill>
        <p:spPr>
          <a:xfrm>
            <a:off x="1476360" y="3500280"/>
            <a:ext cx="5076720" cy="3248280"/>
          </a:xfrm>
          <a:prstGeom prst="rect">
            <a:avLst/>
          </a:prstGeom>
          <a:ln w="0">
            <a:noFill/>
          </a:ln>
        </p:spPr>
      </p:pic>
      <p:sp>
        <p:nvSpPr>
          <p:cNvPr id="28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5" descr="Картинка 3 из 2243"/>
          <p:cNvPicPr/>
          <p:nvPr/>
        </p:nvPicPr>
        <p:blipFill>
          <a:blip r:embed="rId1"/>
          <a:stretch/>
        </p:blipFill>
        <p:spPr>
          <a:xfrm>
            <a:off x="324000" y="476280"/>
            <a:ext cx="3289320" cy="23814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7" descr="Картинка 27 из 2243"/>
          <p:cNvPicPr/>
          <p:nvPr/>
        </p:nvPicPr>
        <p:blipFill>
          <a:blip r:embed="rId2"/>
          <a:stretch/>
        </p:blipFill>
        <p:spPr>
          <a:xfrm>
            <a:off x="2340000" y="3357720"/>
            <a:ext cx="5076720" cy="2733480"/>
          </a:xfrm>
          <a:prstGeom prst="rect">
            <a:avLst/>
          </a:prstGeom>
          <a:ln w="0">
            <a:noFill/>
          </a:ln>
        </p:spPr>
      </p:pic>
      <p:sp>
        <p:nvSpPr>
          <p:cNvPr id="29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Обряд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Сложными религиозными обрядами обставлялись рождения, свадьбы, похороны. Так, известен похоронный обычай восточных славян хоронить вместе с прахом человека (славяне сжигали на кострах своих покойников, помещая их сначала в деревянные ладьи; это означало, что человек уплывает в подземное царство) одну из его жен, над которой совершалось ритуальное убийство; в могилу воина клали останки боевого коня, оружие, украшения. Жизнь продолжалась, по представлениям славян, и за гробом. Затем над могилой насыпали высокий курган и совершалась языческая тризна: родственники и соратники поминали умершего. Во время печального пиршества также проводили в его честь воинские состязания. Эти обряды, разумеется, касались лишь племенных вождей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95" name="Picture 5" descr="Картинка 4 из 30"/>
          <p:cNvPicPr/>
          <p:nvPr/>
        </p:nvPicPr>
        <p:blipFill>
          <a:blip r:embed="rId1"/>
          <a:stretch/>
        </p:blipFill>
        <p:spPr>
          <a:xfrm>
            <a:off x="324000" y="3573360"/>
            <a:ext cx="3911400" cy="2824200"/>
          </a:xfrm>
          <a:prstGeom prst="rect">
            <a:avLst/>
          </a:prstGeom>
          <a:ln w="0">
            <a:noFill/>
          </a:ln>
        </p:spPr>
      </p:pic>
      <p:sp>
        <p:nvSpPr>
          <p:cNvPr id="29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Языческие верования и обычаи сохранялись у восточных славян еще долгое время и после принятия христианства, переплетаясь с христианскими праздниками и обрядами на протяжении многих столетий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98" name="Picture 4" descr="Картинка 8 из 637"/>
          <p:cNvPicPr/>
          <p:nvPr/>
        </p:nvPicPr>
        <p:blipFill>
          <a:blip r:embed="rId1"/>
          <a:stretch/>
        </p:blipFill>
        <p:spPr>
          <a:xfrm>
            <a:off x="1692360" y="2708280"/>
            <a:ext cx="5076720" cy="3105000"/>
          </a:xfrm>
          <a:prstGeom prst="rect">
            <a:avLst/>
          </a:prstGeom>
          <a:ln w="0">
            <a:noFill/>
          </a:ln>
        </p:spPr>
      </p:pic>
      <p:sp>
        <p:nvSpPr>
          <p:cNvPr id="29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роисхождение славян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739908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Славяне верили в свое происхождение от некоего прародителя. Например, некоторые племена считали своим прародителем Волка. Он считался могущественным защитником племени, пожирателем злых духов. Во время зимнего солнцестояния все мужчины этих племен во главе с языческими жрецами надевали волчьи шкуры (длаки), что символизировало превращение в волков. У звериного предка просили силы и мудрости. Позднее, с приходом христианства, словом "волкодлак", то есть облаченный в звериную шкуру, стали называть злого оборотня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6" name="Picture 5" descr="Картинка 11 из 24107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92360" y="3048120"/>
            <a:ext cx="2791080" cy="380988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Боги и богин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73260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Как и другие древние народы, как, в частности, древние греки, славяне населили мир разнообразными богами и богинями. Были среди них главные и второстепенные, могучие, всесильные и слабые, шаловливые, злые и добрые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0" name="Picture 5" descr="Картинка 13 из 23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989000"/>
            <a:ext cx="3029040" cy="38102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7" descr="Картинка 8 из 23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24360" y="3573360"/>
            <a:ext cx="3459240" cy="276696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Во главе славянских божеств, стоял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великий Сварог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- бог вселенной, неба и огня небесного, напоминающий древнегреческого Зевса. По поверьям древних славян, он разбивал лучами-стрелами небесный покров. Когда-то Сварог бросил на землю с неба кузнечные клещи, и стех пор люди научились ковать железо. Он покровитель кузнецов. Его и самого представляли как молодого сильного кузнеца. Его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сыновья - Сварожичи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- солнце и огонь, были носителями света и тепла.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4" name="Picture 5" descr="Картинка 10 из 7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2924280"/>
            <a:ext cx="2857320" cy="31813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Картинка 2 из 1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00720" y="2637000"/>
            <a:ext cx="2705040" cy="3809880"/>
          </a:xfrm>
          <a:prstGeom prst="rect">
            <a:avLst/>
          </a:prstGeom>
          <a:ln w="0">
            <a:noFill/>
          </a:ln>
        </p:spPr>
      </p:pic>
      <p:sp>
        <p:nvSpPr>
          <p:cNvPr id="21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Бог солнца </a:t>
            </a: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Даждьбог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весьма почитался славянами. Недаром автор "Слова о полку Игореве" называл славян "даждьбожьи внуки". Он сын Сварога, олицетворял собой солнце. Каждое утро он выезажет на колеснице, запряженной белыми огнедышащими конями. Его сестры – Утренняя Заря и Вечерняя Заря – поочередно выводят и заводят в конюшню коней Даждьбога. У него были две прислужницы, разгонявшие тучи и с помощью дождей очищавшие его лицо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8" name="Picture 5" descr="Картинка 15 из 39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3284640"/>
            <a:ext cx="3228840" cy="2533680"/>
          </a:xfrm>
          <a:prstGeom prst="rect">
            <a:avLst/>
          </a:prstGeom>
          <a:ln w="0">
            <a:noFill/>
          </a:ln>
        </p:spPr>
      </p:pic>
      <p:sp>
        <p:nvSpPr>
          <p:cNvPr id="21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Молились славяне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Роду и роженицам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- богу и богиням плодородия. Этот культ был связан с земледельческими занятиями населения и был, поэтому особенно популярен. Род – творец всего сущего, он «вдувал» в людей жизнь. Когда в семье хотели иметь детей, для Рода готовили особое жертвоприношение – кашу, сыр, хлеб и сладкий, сваренный на меду напиток. Вкусив это угощение, Род будто бы посылал в помощь людям верно служивших ему дев – Рожаниц, которые и должны били позаботиться  о приплоде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1" name="Picture 5" descr="Картинка 1 из 85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2852640"/>
            <a:ext cx="2543040" cy="381024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Бог </a:t>
            </a: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Велес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почитался у славян в качестве покровителя скотоводства, это был своеобразный "скотный бог". Считалось, что он способствует обогащению. В Х веке именем Велеса клялись князья и их договоров с византийскими монархами. Праздник Велеса отмечался в начале января. К Велесу дня выпекалось особое печенье в в виде домашних животных. Люди рядились в звериные маски, надевали на себя вывороченные тулупы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4" name="Picture 5" descr="Картинка 2 из 87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4720" y="2781360"/>
            <a:ext cx="2743200" cy="380988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Стрибог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, по их понятиям, повелевал ветрами, как древнегреческий Эол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7" name="Picture 5" descr="Картинка 2 из 1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63640" y="2565360"/>
            <a:ext cx="4581720" cy="380988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3T16:07:58Z</dcterms:created>
  <dc:creator>домашний</dc:creator>
  <dc:description/>
  <dc:language>en-US</dc:language>
  <cp:lastModifiedBy>LEGION</cp:lastModifiedBy>
  <dcterms:modified xsi:type="dcterms:W3CDTF">2015-01-15T12:32:08Z</dcterms:modified>
  <cp:revision>21</cp:revision>
  <dc:subject/>
  <dc:title>Слайд 1</dc:title>
</cp:coreProperties>
</file>